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769-16D3-4094-9AC7-8F874B8D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BC0-83CA-43BE-A10B-804FB025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45A-AE0F-46ED-8001-4BDE57F7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CB9-5D3C-444E-B024-61580EC1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1AC-7CEC-49FE-B4D3-0FA4595E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AF3-A3BC-404B-A9ED-4EE38680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19B-0FF3-4151-BB5A-8CC01B35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E2B-D7C3-49D2-AFCC-8BF528F0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413-32FD-4D17-B1E7-D963D2F2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7DA-97BB-489B-A982-7E803784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16B-6AF2-4070-B4D0-FA342DEA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F91-2147-4A4F-888F-E80EF303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7529-20D4-4365-9D6D-439FE425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4E42-DBB0-429A-B2B7-4948ED6C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9624-72B1-41E6-B14A-068221E0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73B0-6E08-40A7-A99C-A413DD12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DD8D-6ABB-44CF-BB96-64BD12C6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0648-1AAB-4977-8323-0B0F5AE3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5FA4-6F8E-44CA-BA12-3EFAD555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39F3-7729-4525-AD34-9E62A60A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0289-8D3D-4173-AAD4-7A432A9D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2C0E-DB0C-488F-B5D3-BFE934FA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C524-4DF4-471D-BDF6-7DBF2822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0FD8-D694-426C-AA8F-FFF66E21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6757D-4D4F-4B46-A366-F93E5403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ABF37-D7B9-4EFD-B02C-7DF36996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6DD96-F13E-4586-848B-E4571B23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142A5-AD18-41CC-93B7-1AE06F9F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BF30-90FB-4EC7-AF51-90948F54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7147-30FF-422F-B87B-F3B08E2D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6D2B-FDD5-4E61-8C70-23082428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C5DA-1FFD-4017-A2FE-CE1674C5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D23E-1E07-4D78-91EE-EDC9A272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3FF33-BF63-4205-94B4-36C01AFB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FB91-8C72-4019-828E-4D62ACDC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33797-2359-4DE8-BF98-B144E2BA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72F68A-EFD2-4344-BB4A-4B2FB0EF6A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B4A173-049F-4009-BBC2-B53CF49788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E7C58EA-FB09-41D4-8B9A-CDBD15B56C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137440" cy="592128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6659640" y="6515280"/>
            <a:ext cx="2481120" cy="344520"/>
            <a:chOff x="6659640" y="6515280"/>
            <a:chExt cx="2481120" cy="34452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8361360" y="6515280"/>
              <a:ext cx="77940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659640" y="6613560"/>
              <a:ext cx="183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9900"/>
                  </a:solidFill>
                  <a:latin typeface="Arial"/>
                </a:rPr>
                <a:t>www.equalitytrust.org.u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-36720" y="659772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333399"/>
                </a:solidFill>
                <a:latin typeface="Arial"/>
              </a:rPr>
              <a:t>Wilkinson &amp; Pickett, The Spiri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33336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ocial mobility is lower in more unequa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8:26:17Z</dcterms:created>
  <dc:creator>Kate Pickett</dc:creator>
  <dc:description/>
  <dc:language>en-US</dc:language>
  <cp:lastModifiedBy>Kate Pickett</cp:lastModifiedBy>
  <dcterms:modified xsi:type="dcterms:W3CDTF">2009-05-12T15:53:56Z</dcterms:modified>
  <cp:revision>3</cp:revision>
  <dc:subject/>
  <dc:title>Slide 1</dc:title>
</cp:coreProperties>
</file>