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383-A606-46D5-BF49-0D48817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2D6-E4AE-47F4-A16D-1A9E73C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4F0-97EC-4FFE-A473-859420B3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43B-D2F5-4DA6-BCBB-05E93DF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3C0-B1ED-463E-9A55-0122910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F8F-F214-49A9-B2FA-ED96DCFC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5F6-2510-40BF-8C45-CC57BBA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44D-A6DE-48A2-AB6D-982F807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DBC-BEE8-404E-BC99-FAA9F2C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890-09A3-41F6-B4E9-28E0960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609-6CB5-481F-86E3-CCBEEE4B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DD3-CD31-458A-8590-50D100CC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1A50-AD08-4D7A-948A-32A71CA0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148-ADF3-43E9-AFA0-D661523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8F6-6B89-469C-A750-376F3C03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1838-3EB6-440E-8A19-A3A75AD8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174-33CB-4E99-B69F-59713DB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DB91-8A9C-4261-A290-7E974C7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B681-75E5-4C2A-B62A-041EA3C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553-8D9E-49D6-9D4F-9B281AD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920-F89F-46EB-A9DE-E7B5100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C2F-E575-469E-A3C0-C9A53D3D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98C4-DFF3-4EE6-95E0-156DF4B8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83E1-EB0D-4A34-A2A6-FB22FFB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E0F4-6C54-4253-85F3-5646AA1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964A-02D1-45FE-A19D-B13721C5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956D-3FA8-4F5A-AF07-8402D667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B0BA-9945-4396-8843-5A7BDB15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7D62-E533-42C0-8E1E-4BC2E9D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BCC6-D605-4BEB-85A2-38DB524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43FE-A98B-4CD7-B413-A41A12F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13C3-03B8-4A2B-BB72-32A9EDC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A049-8329-41AE-9B18-AE8522D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C27C-1897-4607-BD40-C6FD27B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05FF-565C-462B-A83B-8E0DBF06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4694-F93D-41CB-ACD4-133CB60D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CA4C57-5848-4DF6-B1E4-3969F05EC0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CF2E9A-C1C0-4B74-96AA-54103DA78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E39A44-7237-4E22-92E0-E5C6101667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37440" cy="59212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659640" y="6515280"/>
            <a:ext cx="2481120" cy="344520"/>
            <a:chOff x="6659640" y="6515280"/>
            <a:chExt cx="2481120" cy="34452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8361360" y="6515280"/>
              <a:ext cx="7794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613560"/>
              <a:ext cx="18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9900"/>
                  </a:solidFill>
                  <a:latin typeface="Arial"/>
                </a:rPr>
                <a:t>www.equalitytrust.org.u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-36720" y="659772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Wilkinson &amp; Pickett, The Spiri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ocial mobility is lower in more unequ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26:17Z</dcterms:created>
  <dc:creator>Kate Pickett</dc:creator>
  <dc:description/>
  <dc:language>en-US</dc:language>
  <cp:lastModifiedBy>Kate Pickett</cp:lastModifiedBy>
  <dcterms:modified xsi:type="dcterms:W3CDTF">2009-05-12T15:53:56Z</dcterms:modified>
  <cp:revision>3</cp:revision>
  <dc:subject/>
  <dc:title>Slide 1</dc:title>
</cp:coreProperties>
</file>